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_x000b_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zu wenig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0440" y="549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3"/>
            <a:endCxn id="16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fäßdurchlässigkei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3" idx="3"/>
            <a:endCxn id="16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70" idx="3"/>
            <a:endCxn id="17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phr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lust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3"/>
            <a:endCxn id="17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ohne Albumin ↓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munglobuli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8880" y="54936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globul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bumin ↓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globuli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10520" y="549360"/>
            <a:ext cx="77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ypoglobul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lbumin ↓) &gt; Immunglob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lostrumaufnahm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hypo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3"/>
            <a:endCxn id="186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7" name=""/>
          <p:cNvCxnSpPr>
            <a:stCxn id="184" idx="3"/>
            <a:endCxn id="18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lust über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exsud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eropath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4" idx="3"/>
            <a:endCxn id="18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enn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3400" y="54936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oproteinämie &gt; absolut (zu wenig Protein) &gt; Panhypo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lust über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exsud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eropath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2680" y="549360"/>
            <a:ext cx="79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proteinämie &gt; absolut (zu wenig Protein) &gt; Panhypoproteinämie &gt;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erlust über den Darm (exsudative Enteropath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3" idx="3"/>
            <a:endCxn id="19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estinale Lymphangiektas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B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armparasi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3440" y="6396840"/>
            <a:ext cx="33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IBD = Inflammatory-Bowel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at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0080" y="549360"/>
            <a:ext cx="46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relativ 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3"/>
            <a:endCxn id="11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3" name=""/>
          <p:cNvCxnSpPr>
            <a:stCxn id="110" idx="3"/>
            <a:endCxn id="11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anhypo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0" idx="3"/>
            <a:endCxn id="11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ohne Albumin ↓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ohne Globuline ↓)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3760" y="549360"/>
            <a:ext cx="48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solut (zu wenig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ohne Globuline ↓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 (zu wenig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obuline ↓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6" idx="3"/>
            <a:endCxn id="12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 (zu wenig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obuline ↓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3" idx="3"/>
            <a:endCxn id="13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prote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 (zu wenig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obuline ↓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41" idx="3"/>
            <a:endCxn id="14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7840" y="549360"/>
            <a:ext cx="76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8600" y="549360"/>
            <a:ext cx="77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3"/>
            <a:endCxn id="1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1" idx="3"/>
            <a:endCxn id="15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5" name=""/>
          <p:cNvCxnSpPr>
            <a:stCxn id="151" idx="3"/>
            <a:endCxn id="15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105560" y="5493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prote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solut (zu wenig Protein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 (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Globuline ↓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4:13:01Z</dcterms:modified>
  <cp:revision>336</cp:revision>
  <dc:subject/>
  <dc:title>Vorstellung einer Neuheit</dc:title>
</cp:coreProperties>
</file>